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CDF6F6-50FB-448E-BA90-DDB3068531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A97C86-6436-4B55-B319-CFE39C991C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05A8EB-09AA-4EB3-9EE3-DB35FE66A7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35A3FA-B532-46F2-8285-71D4D72544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F467AE-3E7F-40B5-9543-0980544148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21E12E-FAD1-4C89-9D8F-09F58C79B0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6DE73A-6F77-422B-86BE-21DF4C6915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C925CD-1C7C-4761-97E2-06EBA277A1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870954-BA41-4C2A-B260-35FA9DDC8B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AFF5FA-792D-4FDE-BD66-A6497B1A5F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6B1D58-322A-430D-B8EA-49BC48C333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825D92-B9F1-45DD-9E5F-2A1CA98A01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7601C8-BAE7-41FB-A90F-B17D3DA67B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F4D808-26B5-4382-81E9-09A82A0742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D3C4B8-1473-49DF-A0D6-BC933B8607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AFC0DC-C9A4-49D9-A5F2-C403AE7F2D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9C4820-C59E-4181-991A-991E234716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9C5117-DD3F-4C7A-836A-A4F21035AC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4FA9F1-88BC-494C-B2A2-5721D83C7B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942D63-332E-4710-9679-9C56696FBE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3B3192-13E2-4EB5-9170-2970B66716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66D8BF-B7F8-4948-814C-5EE70CA0FA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18FDF4-5B28-4E3B-8713-15D10C5FF7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099E62-9E8D-4CEB-85C1-C4AFBD842F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1A52C-FAC0-4C2B-BFDD-7BE356FE55E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65CDE-0DEA-4832-BA54-696219F8574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E700C11-4471-4642-8547-0743EC1EA34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E3850F3-4C40-4C9A-991D-E6EC093111C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824971-D506-44EB-B082-82026BBC69D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BCDC14-FBDB-4616-B793-AA70F2ED16C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056EC1-35CC-4650-8AE8-8FBF92D8B6A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ECB4C1-434E-49C5-94A5-E2405D58F67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579ACE-E066-4502-9D89-B72ED04E7FC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BBA8E4-0704-4B01-B1BC-8D717C5C900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6ECCAE-2D57-480F-B790-2C8861D331F9}"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0E4282-536F-4E56-9BDB-CF5FC52E73CF}"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490068-092A-4474-9EF6-49C57F5489AA}"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C09F70-302C-4330-973A-03F8EF6B34F9}"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0EF1B1-3B5A-4E45-B478-CE66799CBA23}"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BB4267-F8BB-4BD6-8105-A0E9904C72CE}"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873B5F-A82E-426B-854B-664BE63B9108}"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3CE879-D314-4CD9-B78C-2BD6ACADD4B0}"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8EFAF0-53E4-4317-8D3F-F4E81FE20D0C}"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503D21-AC03-41FF-AB60-BE85905877E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C28B15-69C3-44B9-B5FB-E080C0E999E4}"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C7C5B1-03B6-41A4-B42A-6ABA43E5DC05}"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BC7E91-0D03-4264-94D4-2515BBAA7215}"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870E54-2634-4891-8BA0-61BF3369E708}"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9BEE37-4EDA-423E-B474-77DF600065D5}"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78D5DC-69B2-4401-A4A9-91BB4B1F674C}"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5FB0F5-6BE4-4547-BA7E-2AA5A046A47F}"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B98C35-82B1-49C9-B6C4-681EF060935F}"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72BDCA-65A7-41C4-9819-FD392CDFAE0F}"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F5FDFBD-75B4-4399-8717-E08B533F8A61}"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9B0B05-2C8F-4BAD-9C52-EA74D031EAAC}"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2BF246-F313-44AC-B36F-B43D902AC9AB}"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37029F-F941-405D-A5A3-AFBB95E5CF88}"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648033-9DDF-403F-85C4-C6B231D15489}"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3FFA75-D078-4B5E-9194-CC0B6037A68B}"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55888F-A24B-44AB-AD84-84863FBCD25D}"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D1DFBE-606F-435C-B5BF-B74B3511F71F}"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D81276-8765-4FD4-99F1-3F3DD912C3AB}"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57F445-2EEC-47C8-AF60-C17AA94068E1}"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964F60-0E01-44CD-8C45-054921DF3AC0}"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E82964-78D0-4B21-BA8C-1A688EDB7972}"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5C69C3-18E6-48BF-89F6-2F1F1DEC36F9}"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981D63-6864-4D00-A7C7-796EE2577ACB}"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C487B5-D31F-48EA-87FF-A888626C5255}"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72D7FE-3A1A-484B-A8CA-6D1016B9B4D1}"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C0877D-D5B6-40DC-A144-322AD2A0C9C6}"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25FB6D-819D-4945-B44E-089A1B894FB2}"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8D1541-1841-41AC-B801-67D8C307F688}"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63BABF-F1A5-4171-8915-6D327E200747}"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FABB0E-0AE8-41D3-BE80-4C22BCD73669}"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79001B4-3CF7-4C12-B92A-276E5EFDAF5E}"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F59888-0E0F-4A29-96C6-6329E6DA25AD}"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6C98D9-E675-4AF9-B82F-86514F97EDAC}"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131204E-A936-4138-8751-0B5C1D45A4E6}"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695AB7-2568-4312-8136-0ACC71A7D3A1}"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EBF216-0CD1-4F23-9CA2-D51C14A60575}"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AE0595-0B75-4F84-B88C-EA81ABACF64C}"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11D402-385D-426B-A17F-423046B2B2AB}"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51C4C9-64C0-48E1-970A-8A4840D8E4F0}"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19955B-03D1-477E-958C-077B5795D57F}"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DE9E4E-ECF9-46E8-9FF0-13E932FA20F5}"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CC266AB-73DF-4FF4-9B7A-AB3582788425}"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15A536-0118-4F5C-AA2B-EBB99CEB0630}"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02EF6E-5EF1-4022-9A89-7C048A4CCE41}"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844684-C290-4FA3-BFD7-01987EE3CD0D}"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4476F3-EA29-4965-9FC1-7779797EE0EE}"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EE4329-31DE-40BD-AEC4-E31458CFC4D1}"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7334113-C8E0-4C73-A8A3-36BE439742D6}"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5F4A4B-2949-4156-88E7-1FEC58E6289A}"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117920-BFF4-4686-B1DC-DF8DA5800A9B}"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726A9E-F65E-4A3B-91C9-93771CBA177B}"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319517-DD9E-4778-8117-AFEF54BDB1CC}"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8665D7A-C1F7-40E6-B9C8-D6CF64C5988F}"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AB2C29-3C9C-47CD-8E71-B708E5F829AC}"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0F0B69-8DD6-4ED7-8A29-C8B517FDC3A0}"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CCD8A1-FD8C-4D3F-9BE9-1B87C0315D0A}"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902606-EFD0-4B99-A672-3DDD2306942F}"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C1762C-A5A8-4D04-8139-2D867FEA026E}"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FA88FD-E7F2-4F3E-8041-21F5D24C0963}"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EFB25B6-36A4-4E42-9064-74294130F23A}"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BFE502-D1EB-437C-9E24-8B03923BF357}"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0DB432-7441-4FB4-A25E-142F1CCF0DFE}"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B8E332-DDCF-4848-BD8A-A064E4C1CD27}"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D5AE16A-84A8-4A60-8F0E-41D7275407E9}"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E572D9-1FF7-4576-A1CD-170C6C5ED542}"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BD82C18-DE46-4F95-9A6D-CD0DF90E3572}"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A3AEDD-27A6-41FD-8FEB-A20472E9B062}"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1E11E5-90A6-4477-8397-571BFD90E0DB}"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2A252B-9657-4BD3-8E35-946690B670C3}"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1CEF02-8C87-4060-BEA8-45103CE708CC}"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B7DF75-ADF5-4B9F-8DFD-95EF0340242B}"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82BA07-6F3E-4773-9A05-9EE0A69695EA}"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74E031-6CE5-4FF6-AF24-060EB6F88F39}"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3BA1DE-1DF6-490A-B1A0-A0FFBBBCF171}"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571263-0033-4E8E-95A0-9E48CDB3CC3F}"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09B151-979A-43A0-A262-2660332594A3}"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6D9615-B6E8-4CDA-B03F-0D7BBD449E57}"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6BADC6-6D60-47BD-909F-02DA991CD244}"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6417F0-DB08-4756-A297-08979E296092}"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A0CD2D-E283-4D5D-ACBF-F0574779D831}"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402039-07F0-4C49-9480-893158AE585C}"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15C6DD7-1F67-4C04-A68B-4C4C3F270E0E}"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D035CA-D641-4CA9-A998-67733F1BCE91}"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538EE9-5599-4447-89F3-51A0ADD58158}"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0319CB-E8F8-4641-8579-185AD5ABCE1E}"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FC7173-236A-4A3D-A154-3D173B65249C}"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7FB1C5-8AE4-4F80-8A5B-A838551A5937}"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EE0C7D-FCFA-424B-AACD-179A83A8CE01}"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893D96-5BF4-4B69-A633-D4B430AB5D3A}"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5C21CD-01A8-4B6A-A1B6-583B8955A786}"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CBE096-FCAC-4AF7-B3AC-D2344DAEBAED}"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C8017F-FCA5-43A7-BF41-8B53C2F29EFD}"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AB7874-5A90-42AA-8330-5B8A69C79989}"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4A8CF1-2BAA-4667-BD0D-6565DCCBAB0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3D8086-F542-4FBD-AFB4-2308AECB50C5}"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C47168-4B25-443D-AB2C-AE5DDA918AF0}"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0E596A-368D-4D0E-97CE-CF1F9FD0F3C9}"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7C2F0F-DB5D-4C0E-A279-A4B036637BF5}"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02EB66-3E93-48C9-AC64-25948D2AE88D}"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1CB928-BE9F-42A5-8A04-1AD675EB8083}"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2CC615-38E1-47F7-853B-360ECF596AA3}"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F013F1-B9B6-4637-9B48-7C2B4F9A1C3B}"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F52B2D-1815-4FB6-9E74-7F02DE4A33E5}"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07B32D-FB98-44A4-A249-F33D33CC0450}"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35FD37-B2E2-48DF-B592-54C0000EF382}"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0A9E2A-9A35-4751-BEDB-C1D31E25F33F}"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E42C49-8E8C-452B-8DAF-F6BEDE153C54}"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45658F-E3A6-463E-AC0F-C59135B07B94}"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26668F-EF1E-42FD-9F4F-F286CD57C439}"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EEF62E0-10E6-41F0-9604-A954F020BF65}"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4AC31E-4C53-432B-84A1-4D5582E6BE4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8CABB4-5D99-4806-8AD7-4DAE16AE744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56C4C1-7DCA-4FED-BBB1-11C660A766C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3E434E-43D5-4DF2-A20A-9986DA09E05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6E6016-FED3-446A-9E9A-D20E50B59D3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314FEF-6FE9-4DC6-A050-F1BD95B5BC9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C1F0B4A-2EEE-40BF-9001-C36F8F78445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F34AE2-7096-4C84-A372-A0AADC8DDC2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6C23BF-29B2-4A9D-8B09-7477B85B68B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09E7EF-163D-4E45-8489-1F4D51191E0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A7004D-C268-4624-9FD6-07F3D24BDF4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7C4734-191D-4BCD-9561-DF9B0F9BD56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CEF0F2-4DF7-46B6-A10B-E629F2D6BF9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FD0873-F35E-43D9-AB34-A6DDD2E6D46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56A7A3-FA93-4B65-9CE1-BBD1E98CECC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5B4AF5-23C2-471C-8C34-BE12CCD6D41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C4B66A-9990-4299-9E50-A72B3979EAE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E905CA-6F26-4038-8C4B-FE2BD759DEB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A3FFEF-E96C-4BFC-8905-1AE52665C3B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EBF1C8-31A7-4849-8F1D-A125B49242C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BBA6B8-21E2-4506-BEF5-7C21A763815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08451B-1090-4E08-AC8F-FD33BBC4474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493FF4-254A-486A-A02C-2793393C2BD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02FF85-2DCB-4369-BFDA-4CC76404CBD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2A7F92-9B77-42E5-91E2-0BF8191515D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9B0B1A-D430-4F53-8E97-746D39FBDE1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3903AF-8997-4343-BAC8-18A6F851941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94CDBD-9679-4135-ABCA-6328B6C8A05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AEFF49-7E83-42EE-A719-2B02B579013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541E42-ED35-4DA7-AB60-31966A5E7D4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053089-210F-4896-93A8-C61BFC0C33C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6D0D82-B2A2-4E14-9001-A70D16A1234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36F497-B831-4B43-98CB-516A296B03C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F7D174-CC79-4721-9875-F16A010CBC0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1737DF-3E13-41A0-A3EC-1C07C20B8FE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8B3CD6-7D55-4318-B0D8-0C38F5C38F6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8F9BED-129C-4615-AAF1-A905F2E3FF6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46777D-68F1-4FF5-95C9-0108208CFB3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3B50F8-C81D-4D09-8421-F6FFE535395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0121FB-B03B-4AEE-A59A-7498983D129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6D37F0-5645-4FF0-A53F-AE957D832B3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F11351-0557-447D-855B-1F6F5A3CDCD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190D1A-B766-4A9D-AA94-0D9D9F16509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997027-2C75-4029-B965-F3EC983FED8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D2C252-AF41-49C7-B7FB-7FF35C85CBE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98BE72-B19D-4F84-BB2B-313342CF697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C13F3E-F4D3-41E0-B531-62289A8620F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C5F48FC-14ED-47D2-9D38-2FF11F49FAA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4BF4EB-75A2-41DC-B2A8-6529EFB5799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FA9020-EF15-4079-AD0E-797B8000164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A020F5-59B2-4804-9A3A-352E465E8B5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9C5774-5070-4C05-BFC5-D598EA2BFA8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CCBAC3-B351-4A3D-9643-83D95688E68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4938EC-47C5-4876-BD99-7FC51382EE2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C8B2D1-C7DE-4349-8B8D-3515710E644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C6734D-3BB5-4A5B-9A7C-5B2F55EF81B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05F981C-5684-4A30-887B-8D392443D00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D03738-4E94-4289-8002-2155A1AAF49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E1C739-9F88-4598-8637-D6B65CD066E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6ED84A-9E32-42E6-8FDE-46D3B9F6062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489A7B-D862-4F87-92D5-85A8B813513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276838-86D3-4250-9001-ED626843C7E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AF6966-C4A2-4CC0-9080-DB8660E3AC8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D6D763-4410-48D9-8F87-0CFAE99693B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7D4D4A-83E2-4165-A08C-C81F13C6895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D67508-1485-499F-990C-D3616BF258F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565137-0064-4225-9E4E-4748E219646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AAE7AD-3361-4405-89FC-CDAF0D025C6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DF3214-A3A4-4E36-A96D-5E1F34D38E3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F1E464-57AE-485B-9A11-CFCBD5D1210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579010-0DAB-476C-A560-76103322C1D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ABFBB05-F2F2-4AA7-B0F5-41BD7769373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2DD9D4-F0D1-43DC-92FD-C6274461F97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61F878-45ED-4DBC-9B81-77D1E67CFC7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4DADC7-6EA5-4574-8473-61F9B523826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D9A8E5-E65A-4929-9436-BC256D83D40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C135F7-3664-4D22-B596-83854EF7447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2866E6-B873-4FFB-AEBD-2CB487460E2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A191A1-DE1E-425A-AAE5-620EF736546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56D56B-CB06-4C6C-8900-9EB2A824C83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52E1CA-34F0-4A72-BBD6-E85BBFB7E71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5760AA-0B4C-4CAF-9FBC-A23EE80D6FB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D6CDC5-A2A9-4B9E-920C-F77B638636E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0EB58A-D071-42AE-B300-19B97019F15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E9E156-E3F9-482D-A1CD-83F91E1F433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